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11.png" ContentType="image/png"/>
  <Override PartName="/ppt/media/image19.jpeg" ContentType="image/jpeg"/>
  <Override PartName="/ppt/media/image7.jpeg" ContentType="image/jpeg"/>
  <Override PartName="/ppt/media/image13.png" ContentType="image/png"/>
  <Override PartName="/ppt/media/image8.png" ContentType="image/png"/>
  <Override PartName="/ppt/media/image6.jpeg" ContentType="image/jpeg"/>
  <Override PartName="/ppt/media/image10.jpeg" ContentType="image/jpeg"/>
  <Override PartName="/ppt/media/image23.png" ContentType="image/png"/>
  <Override PartName="/ppt/media/image1.jpeg" ContentType="image/jpeg"/>
  <Override PartName="/ppt/media/image22.png" ContentType="image/png"/>
  <Override PartName="/ppt/media/image21.jpeg" ContentType="image/jpeg"/>
  <Override PartName="/ppt/media/image16.jpeg" ContentType="image/jpeg"/>
  <Override PartName="/ppt/media/image18.jpeg" ContentType="image/jpeg"/>
  <Override PartName="/ppt/media/image17.jpeg" ContentType="image/jpeg"/>
  <Override PartName="/ppt/media/image14.png" ContentType="image/pn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CAD4A0-4700-4870-B797-AEF17C7BD551}" type="datetime">
              <a:rPr b="0" lang="en-US" sz="1200" spc="-1" strike="noStrike">
                <a:solidFill>
                  <a:srgbClr val="000000"/>
                </a:solidFill>
                <a:latin typeface="Calibri"/>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C21D21-BA28-4D0E-9455-8436FB99C8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E9713C-9E8A-44B6-9B01-0A8941E93DC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en the news has gone digita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e interesting aspect of having ordinary citizens carry along cell phone cameras, digital cameras, and digital camcorders is that not only do they empower us personally but they also are giving rise to what are called ‘citizen journalists.’ The basic idea is that now, if anything interesting is happening anywhere in the world, most likely someone is taking a picture or video of i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NN has its new iReport service, where it aggregates news-oriented video from individuals across the globe. The South Korean online newspaper, OhMyNews, has as its motto ‘Every Citizen Is a Reporter.’ It gets several million hits a day and over 80% of its content is from ordinary citizens like you and m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37C121-1B9D-4DDE-BC92-D094B41124F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54% annual growth in Africa;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microfinancegateway.org/uploaded_files/woman%20in%20crowd%20with%20phone%202.jp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wikinvest.com/concept/Mobile_Phone_Adoption_in_Developing_Countries</a:t>
            </a: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50B775-F994-437E-942A-F01EC6919D7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d the interesting effect of everything going digital is that everyone now has a voic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logs, wikis, podcasts, social networking sites, online photo, online video, social bookmarking, microblogging. The tools are all there for anyone who wants to use the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7A5BE5-81A1-432B-9A5B-676DA041802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1957E7-7355-48C2-8691-DAEA9713420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FED206-5D2F-4AC6-9F16-78DAC79F879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15" name="PlaceHolder 1"/>
          <p:cNvSpPr>
            <a:spLocks noGrp="1"/>
          </p:cNvSpPr>
          <p:nvPr>
            <p:ph type="sldImg"/>
          </p:nvPr>
        </p:nvSpPr>
        <p:spPr>
          <a:xfrm>
            <a:off x="1144440" y="685800"/>
            <a:ext cx="457056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And there’s YouTube, now the #3 place on the Web. About 1 in 6 Internet users has visited YouTube in the past 24 hours.</a:t>
            </a:r>
            <a:endParaRPr b="0" lang="en-US" sz="9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Just ask Judson Laipply, a previously obscure comedian from Cleveland, what it’s done to his career to have his Evolution of Dance routine viewed by over 80 million people. Most major television and film production channels, faced with declining viewership, are trying to establish a YouTube presence.</a:t>
            </a:r>
            <a:endParaRPr b="0" lang="en-US" sz="9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Hands up – how many of you have watched a video on YouTube? uploaded a video to YouTube?</a:t>
            </a:r>
            <a:endParaRPr b="0" lang="en-US" sz="9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We now live in a world where a comedian from Cleveland can be viewed by over 50 million people…</a:t>
            </a:r>
            <a:endParaRPr b="0" lang="en-US" sz="9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hahaha 17 million people</a:t>
            </a:r>
            <a:endParaRPr b="0" lang="en-US" sz="9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hey 15 million people</a:t>
            </a:r>
            <a:endParaRPr b="0" lang="en-US" sz="9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ever watched?</a:t>
            </a:r>
            <a:endParaRPr b="0" lang="en-US" sz="9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ever uploaded?</a:t>
            </a:r>
            <a:endParaRPr b="0" lang="en-US" sz="9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YouTube is now the #2 most-visited site on the Internet – ahead of Google</a:t>
            </a:r>
            <a:endParaRPr b="0" lang="en-US" sz="9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Not bad for a company that barely existed 2 years ago</a:t>
            </a:r>
            <a:endParaRPr b="0" lang="en-US" sz="9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As the Alexa trend graph shows, the percentage of global Internet users who visited YouTube yesterday is nearly 15%. This means that about 1 in 7 Internet users across the globe visited YouTube in the past 24 hours.</a:t>
            </a:r>
            <a:endParaRPr b="0" lang="en-US" sz="9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The only sites more popular than YouTube are Yahoo, MSN.com, and Google.</a:t>
            </a:r>
            <a:endParaRPr b="0" lang="en-US" sz="9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d then there’s Facebook and MySpace, which are the #5 and #7 places on the Web, respectively. Why? Because they do one thing extremely well – they allow us to connect with each other in ways that we find meaningful and engagin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ands up – how many of you belong to MySpace, Facebook, or some other social networking sit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alexa.com/site/ds/top_sites?ts_mode=global&amp;lang=non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010329-A84C-449F-9A52-CEFC04B4D91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83DD33-0F0B-48DF-ABD0-EA0D64B0182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A98E1A-36FC-43E4-8CC9-5F65FA65AD0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4F4E3B-0919-4E8D-BD27-9051FA3CB3D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27" name="PlaceHolder 1"/>
          <p:cNvSpPr>
            <a:spLocks noGrp="1"/>
          </p:cNvSpPr>
          <p:nvPr>
            <p:ph type="sldImg"/>
          </p:nvPr>
        </p:nvSpPr>
        <p:spPr>
          <a:xfrm>
            <a:off x="1144440" y="685800"/>
            <a:ext cx="457056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t ultimately it is about empowerment. The reason these technologies are going like wildfire is because they allow people to be more efficient, to be more effective, to do things they want to do, and to do things they never could befor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llabora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reativit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sintermedia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ach</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utting the power in the</a:t>
            </a:r>
            <a:br>
              <a:rPr sz="1200"/>
            </a:br>
            <a:r>
              <a:rPr b="0" lang="en-US" sz="1200" spc="-1" strike="noStrike">
                <a:solidFill>
                  <a:srgbClr val="000000"/>
                </a:solidFill>
                <a:latin typeface="Calibri"/>
              </a:rPr>
              <a:t>hands of the user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echnology allows us to communicate and collaborate with folks halfway across the globe just about as easily as we can the folks across tow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Just like the printing press ushered in a new era where the general population could afford to be literate, to read, we are seeing similar transformations toda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 longer need to be a publishing company to publish a book</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cord studio to create a hit song or albu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vie studio to create a hit movie or music video</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 Digital cameras, camcorders, software – a few hundred dollars, an Internet connection, and an idea and you’re all se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sintermediation – tools are there that allow us to bypass the “middle man” – used to have to rely on publishers, record companies, movie studios, etc. to reach our audience – now we can reach them directly and they can find us through search engines, video hosting sites, tags, etc.</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t only can we reach them by bypassing traditional entities – we can reach them in the thousands, hundreds of thousands, million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ift Happens</a:t>
            </a:r>
            <a:endParaRPr b="0" lang="en-US" sz="1200" spc="-1" strike="noStrike">
              <a:solidFill>
                <a:srgbClr val="000000"/>
              </a:solidFill>
              <a:latin typeface="Calibri"/>
            </a:endParaRPr>
          </a:p>
        </p:txBody>
      </p:sp>
      <p:sp>
        <p:nvSpPr>
          <p:cNvPr id="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4FDD48-0288-4B78-992D-D52B428EC57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challenge, of course, is that much of this world is invisible to older adults and educators (in the bubbl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y? b/c didn’t grow up with i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the first time in history, kids know more than adults about something that’s importan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 this is scary to adul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sley Frye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http://www.speedofcreativity.org/2006/10/21/beyond-the-digital-native-immigrant-dichotom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018AB9-3158-47B5-86F5-08183EF76F0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d the interesting effect of everything going digital is that everyone now has a voic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logs, wikis, podcasts, social networking sites, online photo, online video, social bookmarking, microblogging,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n of course there’s YouTube, now the #2 place on the Web. About 1 in 6 Internet users has visited YouTube in the past 24 hour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Just ask Judson Laipply, a previously obscure comedian from Cleveland, what it’s done to his career to have his Evolution of Dance routine viewed by over 80 million people. Most major television and film production channels, faced with declining viewership, are trying to establish a YouTube presenc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ands up – how many of you have watched a video on YouTube? uploaded a video to YouTube?</a:t>
            </a:r>
            <a:endParaRPr b="0" lang="en-US"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5AF78B-88F5-44C4-A429-F9E67458D84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logs, wikis, podcasts, social networking sites, online photo, online video, social bookmarking, microblogging. The tools are all there for anyone who wants to use the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Shirky notes, the web has become a participatory space, and there’s no going back.</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does it mean for your ability to be effective 21st century leaders when so few of you are using or are even familiar with the new social tools that are revolutionizing our personal lives?</a:t>
            </a:r>
            <a:endParaRPr b="0" lang="en-US"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9A8898-1825-427A-939E-0484FEA022D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5E2D7-2B7F-40D4-B3CF-37DC9E2D68A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B0F2D0-92F2-44F6-9DFA-3CCA107FF98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alking went digital.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 the personal level, we now carry around portable little computers (also known as cell phones) that not only let us talk to anyone in the world but also can send text messages, photographs, and videos. They also can hold our calendar, contacts, and music that we like to listen to. All in our pocke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ands up – how many of you own a cell phon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flickr.com/photos/davyrocket/82339986/</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w many of you have heard of a service called Jott that lets you can send yourself an e-mail reminder simply by calling and talking into the phone?</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usic went digita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ny of us have iPods or other portable music devices that let us carry around a lifetime’s worth of music. And, again, they fit in our pocket or purs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d, in addition to being both wonderfully useful and kinda cool, these little devices also are making us completely rethink a number of issues related to intellectual property and copyrigh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ands up – how many of you own an iPod or other kind of portable music playe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flickr.com/photos/zengame/42914294/sizes/l/</a:t>
            </a:r>
            <a:endParaRPr b="0" lang="en-US" sz="1200" spc="-1" strike="noStrike">
              <a:solidFill>
                <a:srgbClr val="000000"/>
              </a:solidFill>
              <a:latin typeface="Calibri"/>
            </a:endParaRPr>
          </a:p>
        </p:txBody>
      </p:sp>
      <p:sp>
        <p:nvSpPr>
          <p:cNvPr id="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F657C9-F37D-412F-B4A3-6DEDF866812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ps went digita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a few hundred dollars, we can buy a portable GPS unit and never have to get lost aga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ands up – how many of you own a GPS uni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flickr.com/photos/soumit/450204342/in/photostrea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flickr.com/photos/mdumlao98/976279763/</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hotos went digita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world of photography has been completely upended in the past couple of decades, as digital cameras infiltrate both the personal and professional realm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ands up – how many of you own a digital camera? Those of you who do know the affordances they lend us over regular film photograph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flickr.com/photos/parl/89822733/</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flickr.com/photos/dhammza/140868495/</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flickr.com/photos/purprin/2070805989/</a:t>
            </a:r>
            <a:endParaRPr b="0" lang="en-US" sz="12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1F4ACC-E407-4E09-BB3C-7D7AE5427F2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vies went digita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ike the digital camera, the digital camcorder also is replacing earlier, often bulky versions, allowing individuals to capture video wherever they might b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flickr.com/photos/oldonliner/1571194587/</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flickr.com/photos/checiap/164147687/</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48B37E-F82D-4741-AB8E-25E0548BCF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8C81E6-645C-4D7E-B4DC-F35436B8E1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F253C2-DB84-4BA4-AAF9-2C375619B0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50F158-9C96-46DC-999B-A230860BFD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C84273-AE81-4E4B-A370-FC7F5E3A12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2A32C2-95E6-4EBC-8630-D3CD13D216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0B10D5-9A17-4FCA-9CD9-7E946B8C18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46A8EB-3EF9-4118-BF9B-ADDCD36C1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4141BE-8BEF-4A62-989A-4370389E48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AD975-EE76-4660-891F-DF89FC43B2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C5E4FC-1A07-46B6-B9F4-9B8F28B96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22583-5EB7-4EC7-B6F9-6544F8A0B4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1"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849911-1218-4E70-B089-1177A97B06D8}"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
        <p:nvSpPr>
          <p:cNvPr id="4"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movingforward.wikispaces.com/videos" TargetMode="External"/><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typepad.com/t/app/weblog/post?blog_id=1361226" TargetMode="External"/><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flickr.com/photos/wfryer/275042551/" TargetMode="External"/><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837720"/>
            <a:ext cx="7772400" cy="1737000"/>
          </a:xfrm>
          <a:prstGeom prst="rect">
            <a:avLst/>
          </a:prstGeom>
          <a:noFill/>
          <a:ln w="0">
            <a:noFill/>
          </a:ln>
        </p:spPr>
        <p:txBody>
          <a:bodyPr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ffcc66"/>
                </a:solidFill>
                <a:latin typeface="Arial Black"/>
              </a:rPr>
              <a:t>ACT 1</a:t>
            </a:r>
            <a:endParaRPr b="0" lang="en-US" sz="15000" spc="-1" strike="noStrike">
              <a:solidFill>
                <a:srgbClr val="ffcc66"/>
              </a:solidFill>
              <a:latin typeface="Arial"/>
            </a:endParaRPr>
          </a:p>
        </p:txBody>
      </p:sp>
      <p:sp>
        <p:nvSpPr>
          <p:cNvPr id="49" name="PlaceHolder 2"/>
          <p:cNvSpPr>
            <a:spLocks noGrp="1"/>
          </p:cNvSpPr>
          <p:nvPr>
            <p:ph type="subTitle"/>
          </p:nvPr>
        </p:nvSpPr>
        <p:spPr>
          <a:xfrm>
            <a:off x="-360" y="3429000"/>
            <a:ext cx="8458200" cy="1752480"/>
          </a:xfrm>
          <a:prstGeom prst="rect">
            <a:avLst/>
          </a:prstGeom>
          <a:noFill/>
          <a:ln w="0">
            <a:noFill/>
          </a:ln>
        </p:spPr>
        <p:txBody>
          <a:bodyPr anchor="t">
            <a:noAutofit/>
          </a:bodyPr>
          <a:p>
            <a:pPr indent="0" algn="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1f98d3"/>
                </a:solidFill>
                <a:latin typeface="Arial Black"/>
              </a:rPr>
              <a:t>Our tools</a:t>
            </a:r>
            <a:br>
              <a:rPr sz="6000"/>
            </a:br>
            <a:r>
              <a:rPr b="0" lang="en-US" sz="6000" spc="-1" strike="noStrike">
                <a:solidFill>
                  <a:srgbClr val="1f98d3"/>
                </a:solidFill>
                <a:latin typeface="Arial Black"/>
              </a:rPr>
              <a:t>have </a:t>
            </a:r>
            <a:br>
              <a:rPr sz="6000"/>
            </a:br>
            <a:r>
              <a:rPr b="0" lang="en-US" sz="6000" spc="-1" strike="noStrike">
                <a:solidFill>
                  <a:srgbClr val="1f98d3"/>
                </a:solidFill>
                <a:latin typeface="Arial Black"/>
              </a:rPr>
              <a:t>changed</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pic>
        <p:nvPicPr>
          <p:cNvPr id="63" name="Content Placeholder 3" descr="CNN iReport.png"/>
          <p:cNvPicPr/>
          <p:nvPr/>
        </p:nvPicPr>
        <p:blipFill>
          <a:blip r:embed="rId1"/>
          <a:stretch/>
        </p:blipFill>
        <p:spPr>
          <a:xfrm>
            <a:off x="0" y="0"/>
            <a:ext cx="1407168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 name="Picture 5" descr="cell_phone_africa.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 name="Picture 5" descr="2961226120_e865ac65bf_o.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pic>
        <p:nvPicPr>
          <p:cNvPr id="66" name="Picture 1" descr="Wiki.png">
            <a:hlinkClick r:id="rId1"/>
          </p:cNvPr>
          <p:cNvPicPr/>
          <p:nvPr/>
        </p:nvPicPr>
        <p:blipFill>
          <a:blip r:embed="rId2"/>
          <a:stretch/>
        </p:blipFill>
        <p:spPr>
          <a:xfrm>
            <a:off x="0" y="0"/>
            <a:ext cx="10541160" cy="68580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pic>
        <p:nvPicPr>
          <p:cNvPr id="67" name="Picture 1" descr="NAESP.png">
            <a:hlinkClick r:id="rId1"/>
          </p:cNvPr>
          <p:cNvPicPr/>
          <p:nvPr/>
        </p:nvPicPr>
        <p:blipFill>
          <a:blip r:embed="rId2"/>
          <a:srcRect l="2355" t="0" r="3465" b="0"/>
          <a:stretch/>
        </p:blipFill>
        <p:spPr>
          <a:xfrm>
            <a:off x="0" y="0"/>
            <a:ext cx="9144000" cy="68580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762120" y="838080"/>
            <a:ext cx="3047760" cy="2190960"/>
          </a:xfrm>
          <a:prstGeom prst="rect">
            <a:avLst/>
          </a:prstGeom>
          <a:ln w="0">
            <a:noFill/>
          </a:ln>
        </p:spPr>
      </p:pic>
      <p:pic>
        <p:nvPicPr>
          <p:cNvPr id="69" name="" descr=""/>
          <p:cNvPicPr/>
          <p:nvPr/>
        </p:nvPicPr>
        <p:blipFill>
          <a:blip r:embed="rId2"/>
          <a:stretch/>
        </p:blipFill>
        <p:spPr>
          <a:xfrm>
            <a:off x="5334120" y="838080"/>
            <a:ext cx="3047760" cy="2286000"/>
          </a:xfrm>
          <a:prstGeom prst="rect">
            <a:avLst/>
          </a:prstGeom>
          <a:ln w="0">
            <a:noFill/>
          </a:ln>
        </p:spPr>
      </p:pic>
      <p:pic>
        <p:nvPicPr>
          <p:cNvPr id="70" name="" descr=""/>
          <p:cNvPicPr/>
          <p:nvPr/>
        </p:nvPicPr>
        <p:blipFill>
          <a:blip r:embed="rId3"/>
          <a:stretch/>
        </p:blipFill>
        <p:spPr>
          <a:xfrm>
            <a:off x="2971800" y="4038480"/>
            <a:ext cx="3048120" cy="2438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68"/>
                    </p:tgtEl>
                  </p:cond>
                </p:stCondLst>
                <p:childTnLst>
                  <p:par>
                    <p:cTn id="3" fill="hold">
                      <p:stCondLst>
                        <p:cond evt="onClick">
                          <p:tgtEl>
                            <p:spTgt spid="68"/>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68"/>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69"/>
                    </p:tgtEl>
                  </p:cond>
                </p:stCondLst>
                <p:childTnLst>
                  <p:par>
                    <p:cTn id="8" fill="hold">
                      <p:stCondLst>
                        <p:cond evt="onClick">
                          <p:tgtEl>
                            <p:spTgt spid="69"/>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69"/>
                                        </p:tgtEl>
                                      </p:cBhvr>
                                    </p:cmd>
                                  </p:childTnLst>
                                </p:cTn>
                              </p:par>
                            </p:childTnLst>
                          </p:cTn>
                        </p:par>
                      </p:childTnLst>
                    </p:cTn>
                  </p:par>
                </p:childTnLst>
              </p:cTn>
              <p:prevCondLst>
                <p:cond evt="onPrev">
                  <p:tgtEl>
                    <p:sldTgt/>
                  </p:tgtEl>
                </p:cond>
              </p:prevCondLst>
              <p:nextCondLst>
                <p:cond evt="onNext">
                  <p:tgtEl>
                    <p:sldTgt/>
                  </p:tgtEl>
                </p:cond>
              </p:nextCondLst>
            </p:seq>
            <p:seq>
              <p:cTn id="12" restart="whenNotActive" nodeType="interactiveSeq" fill="hold">
                <p:stCondLst>
                  <p:cond evt="onClick">
                    <p:tgtEl>
                      <p:spTgt spid="70"/>
                    </p:tgtEl>
                  </p:cond>
                </p:stCondLst>
                <p:childTnLst>
                  <p:par>
                    <p:cTn id="13" fill="hold">
                      <p:stCondLst>
                        <p:cond evt="onClick">
                          <p:tgtEl>
                            <p:spTgt spid="70"/>
                          </p:tgtEl>
                        </p:cond>
                      </p:stCondLst>
                      <p:childTnLst>
                        <p:par>
                          <p:cTn id="14" fill="hold">
                            <p:stCondLst>
                              <p:cond delay="0"/>
                            </p:stCondLst>
                            <p:childTnLst>
                              <p:par>
                                <p:cTn id="15" nodeType="clickEffect" fill="hold" presetClass="mediacall" presetID="2">
                                  <p:stCondLst>
                                    <p:cond delay="0"/>
                                  </p:stCondLst>
                                  <p:childTnLst>
                                    <p:cmd type="call" cmd="togglePause">
                                      <p:cBhvr>
                                        <p:cTn id="16" dur="1" fill="hold"/>
                                        <p:tgtEl>
                                          <p:spTgt spid="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1" name="Picture 2" descr="myspace_logo2.jpg"/>
          <p:cNvPicPr/>
          <p:nvPr/>
        </p:nvPicPr>
        <p:blipFill>
          <a:blip r:embed="rId1"/>
          <a:stretch/>
        </p:blipFill>
        <p:spPr>
          <a:xfrm>
            <a:off x="533520" y="2286000"/>
            <a:ext cx="8127720" cy="6095880"/>
          </a:xfrm>
          <a:prstGeom prst="rect">
            <a:avLst/>
          </a:prstGeom>
          <a:ln w="0">
            <a:noFill/>
          </a:ln>
        </p:spPr>
      </p:pic>
      <p:pic>
        <p:nvPicPr>
          <p:cNvPr id="72" name="Picture 1" descr="logo_facebook.jpg"/>
          <p:cNvPicPr/>
          <p:nvPr/>
        </p:nvPicPr>
        <p:blipFill>
          <a:blip r:embed="rId2"/>
          <a:stretch/>
        </p:blipFill>
        <p:spPr>
          <a:xfrm>
            <a:off x="0" y="0"/>
            <a:ext cx="9144000" cy="3438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3" name="Picture 1" descr="club_penguin_penguins.jpg"/>
          <p:cNvPicPr/>
          <p:nvPr/>
        </p:nvPicPr>
        <p:blipFill>
          <a:blip r:embed="rId1"/>
          <a:stretch/>
        </p:blipFill>
        <p:spPr>
          <a:xfrm>
            <a:off x="0" y="0"/>
            <a:ext cx="9144000" cy="7315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 name="Picture 1" descr="webkinz.jpg"/>
          <p:cNvPicPr/>
          <p:nvPr/>
        </p:nvPicPr>
        <p:blipFill>
          <a:blip r:embed="rId1"/>
          <a:stretch/>
        </p:blipFill>
        <p:spPr>
          <a:xfrm>
            <a:off x="0" y="990720"/>
            <a:ext cx="9144000" cy="5337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5" name="Picture 2" descr="IBM"/>
          <p:cNvPicPr/>
          <p:nvPr/>
        </p:nvPicPr>
        <p:blipFill>
          <a:blip r:embed="rId1"/>
          <a:stretch/>
        </p:blipFill>
        <p:spPr>
          <a:xfrm>
            <a:off x="2365200" y="465120"/>
            <a:ext cx="4415040" cy="5940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
          <p:cNvSpPr txBox="1"/>
          <p:nvPr/>
        </p:nvSpPr>
        <p:spPr>
          <a:xfrm>
            <a:off x="457200" y="-360"/>
            <a:ext cx="8229600" cy="6126120"/>
          </a:xfrm>
          <a:prstGeom prst="rect">
            <a:avLst/>
          </a:prstGeom>
          <a:noFill/>
          <a:ln w="0">
            <a:noFill/>
          </a:ln>
        </p:spPr>
        <p:txBody>
          <a:bodyPr anchor="ctr" anchorCtr="1">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78" name="Picture 3" descr="Our Digital Landscape">
            <a:hlinkClick r:id="rId1"/>
          </p:cNvPr>
          <p:cNvPicPr/>
          <p:nvPr/>
        </p:nvPicPr>
        <p:blipFill>
          <a:blip r:embed="rId2"/>
          <a:srcRect l="1332" t="1244" r="5868" b="1035"/>
          <a:stretch/>
        </p:blipFill>
        <p:spPr>
          <a:xfrm>
            <a:off x="2058840" y="919080"/>
            <a:ext cx="5026320" cy="5019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 name="Picture 4" descr="YouTube.png"/>
          <p:cNvPicPr/>
          <p:nvPr/>
        </p:nvPicPr>
        <p:blipFill>
          <a:blip r:embed="rId1"/>
          <a:stretch/>
        </p:blipFill>
        <p:spPr>
          <a:xfrm>
            <a:off x="0" y="0"/>
            <a:ext cx="10104480" cy="68580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762120" y="514440"/>
            <a:ext cx="7543800" cy="565776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restart="whenNotActive" nodeType="interactiveSeq" fill="hold">
                <p:stCondLst>
                  <p:cond evt="onClick">
                    <p:tgtEl>
                      <p:spTgt spid="80"/>
                    </p:tgtEl>
                  </p:cond>
                </p:stCondLst>
                <p:childTnLst>
                  <p:par>
                    <p:cTn id="19" fill="hold">
                      <p:stCondLst>
                        <p:cond evt="onClick">
                          <p:tgtEl>
                            <p:spTgt spid="80"/>
                          </p:tgtEl>
                        </p:cond>
                      </p:stCondLst>
                      <p:childTnLst>
                        <p:par>
                          <p:cTn id="20" fill="hold">
                            <p:stCondLst>
                              <p:cond delay="0"/>
                            </p:stCondLst>
                            <p:childTnLst>
                              <p:par>
                                <p:cTn id="21" nodeType="clickEffect" fill="hold" presetClass="mediacall" presetID="2">
                                  <p:stCondLst>
                                    <p:cond delay="0"/>
                                  </p:stCondLst>
                                  <p:childTnLst>
                                    <p:cmd type="call" cmd="togglePause">
                                      <p:cBhvr>
                                        <p:cTn id="22" dur="1" fill="hold"/>
                                        <p:tgtEl>
                                          <p:spTgt spid="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53" name="Picture 4" descr="desktop"/>
          <p:cNvPicPr/>
          <p:nvPr/>
        </p:nvPicPr>
        <p:blipFill>
          <a:blip r:embed="rId1"/>
          <a:stretch/>
        </p:blipFill>
        <p:spPr>
          <a:xfrm>
            <a:off x="-304920" y="-914400"/>
            <a:ext cx="9753840" cy="7800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pic>
        <p:nvPicPr>
          <p:cNvPr id="55" name="Content Placeholder 3" descr="lenovo-thinkpad-x61-tablet-pc.jpg"/>
          <p:cNvPicPr/>
          <p:nvPr/>
        </p:nvPicPr>
        <p:blipFill>
          <a:blip r:embed="rId1"/>
          <a:stretch/>
        </p:blipFill>
        <p:spPr>
          <a:xfrm>
            <a:off x="0" y="-533520"/>
            <a:ext cx="9144000" cy="9423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 name="Picture 2" descr="82339986_ad45c6b742_b.jpg"/>
          <p:cNvPicPr/>
          <p:nvPr/>
        </p:nvPicPr>
        <p:blipFill>
          <a:blip r:embed="rId1"/>
          <a:stretch/>
        </p:blipFill>
        <p:spPr>
          <a:xfrm>
            <a:off x="-1138320" y="0"/>
            <a:ext cx="1028232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pic>
        <p:nvPicPr>
          <p:cNvPr id="58" name="Content Placeholder 3" descr="42914294_975aab3235_b.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 name="Picture 3" descr="450204342_636c98538c_b.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 name="Picture 4" descr="2070805989_10c4d22b4b_o.jpg"/>
          <p:cNvPicPr/>
          <p:nvPr/>
        </p:nvPicPr>
        <p:blipFill>
          <a:blip r:embed="rId1"/>
          <a:stretch/>
        </p:blipFill>
        <p:spPr>
          <a:xfrm>
            <a:off x="0" y="0"/>
            <a:ext cx="10439280" cy="6954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 name="Picture 4" descr="camcorder"/>
          <p:cNvPicPr/>
          <p:nvPr/>
        </p:nvPicPr>
        <p:blipFill>
          <a:blip r:embed="rId1"/>
          <a:stretch/>
        </p:blipFill>
        <p:spPr>
          <a:xfrm>
            <a:off x="0" y="0"/>
            <a:ext cx="9753480" cy="6905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1T12:58:09Z</dcterms:created>
  <dc:creator>CTLT ISU</dc:creator>
  <dc:description/>
  <dc:language>en-US</dc:language>
  <cp:lastModifiedBy>CTLT ISU</cp:lastModifiedBy>
  <dcterms:modified xsi:type="dcterms:W3CDTF">2009-04-08T21:35:03Z</dcterms:modified>
  <cp:revision>4</cp:revision>
  <dc:subject/>
  <dc:title>ACT 1</dc:title>
</cp:coreProperties>
</file>